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DC9-28B7-4A67-8A75-8185A236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2DAB-AE87-423F-A385-66115E76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572-2A27-4FBE-BCB7-4CF8E418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26A-3CC0-4B35-94EE-2D31FA81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A60F-C9EA-4788-854B-93F523C8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2BCE-56DC-42F2-916F-8CD1695F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40F2-93A4-4BE1-A2E4-7FE4977A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E1BF-3A2A-4DFA-A036-394CD71A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204C-1D18-4CF5-A8A8-55C11970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333B-F398-421A-9CA4-A34C5557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4637-8390-468A-85BF-6AF6E0D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70F2-978F-4E92-9BEC-6B7117F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3E7F-DB21-4C42-9713-D6264DB2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6EDE-24D4-44A2-95F0-75CF6693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DD27-2D06-47E4-9699-C4D17212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0B30-398C-48B4-BD2C-B81B059B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F36A-DA9E-4683-AAC6-5192AE12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A9B-F4E1-4082-A5C0-D20D4A8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4D2-EFCC-46C6-A2D1-6780C6A8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4C2-C214-47FE-97AE-DF9A9F1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96F-6C28-4629-82F9-6E3273F0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BCF-5704-4DB8-8EDA-E924A47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8D6-B256-4FA5-8F31-2BD399F4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ED5-8CF1-42B4-A0ED-9E0B6BF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3395-84D9-4244-8E8B-6CC90F124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146A-C37E-4DAA-A9A6-7CC4AFE035D8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subakishrine.com/omamori/kamidana.html" TargetMode="External"/><Relationship Id="rId2" Type="http://schemas.openxmlformats.org/officeDocument/2006/relationships/hyperlink" Target="http://www.tsubakishrine.com/test/supplies/kamidana.asp" TargetMode="External"/><Relationship Id="rId3" Type="http://schemas.openxmlformats.org/officeDocument/2006/relationships/hyperlink" Target="http://images.google.com/imgres?imgurl=www.jccc.net/~jjackson/isec.jpg&amp;imgrefurl=http://www.jccc.net/~jjackson/ise.html&amp;h=393&amp;w=422&amp;sz=51&amp;tbnid=wzSfVcQnM64J:&amp;tbnh=113&amp;tbnw=121&amp;prev=/images?q=ise+shrine&amp;hl=en&amp;lr=&amp;ie=UTF-8&amp;newwindow=1&amp;client=REAL-tb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61c62"/>
                </a:solidFill>
                <a:latin typeface="Matura MT Script Capitals"/>
                <a:ea typeface="Matura MT Script Capitals"/>
              </a:rPr>
              <a:t>Shinto</a:t>
            </a:r>
            <a:endParaRPr b="0" lang="en-US" sz="8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2895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0" i="1" lang="en-US" sz="5400" spc="-1" strike="noStrike">
                <a:solidFill>
                  <a:srgbClr val="2d2525"/>
                </a:solidFill>
                <a:latin typeface="Matura MT Script Capitals"/>
                <a:ea typeface="Matura MT Script Capitals"/>
              </a:rPr>
              <a:t>Way of the Spirits”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The Four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Affirm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radition and Famil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ove of Natu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hysical cleanlines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atsuri: festivals that worship and honor the Kami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Practices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Tradition and Famil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Life cycle celebrations take place at shrine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Newborn</a:t>
            </a:r>
            <a:r>
              <a:rPr b="1" i="1" lang="ja-JP" sz="2800" spc="-1" strike="noStrike">
                <a:solidFill>
                  <a:srgbClr val="2d2525"/>
                </a:solidFill>
                <a:latin typeface="Times New Roman"/>
              </a:rPr>
              <a:t>’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first visit to shrin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7-5-3 festival: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blessings for boys age 5, girls ages 3 &amp; 7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Entry to adulthood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(age 20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Marriag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(since Shinto celebrates life in this world, in death, the Japanese turn to Buddhist rather than Shinto ritual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Practic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Love of Nature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nual cycle of seasonal festival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Physical Cleanliness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isoji - Water purification rites to wash away impurity, thus restoring original purit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38" name="Object 102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1031" descr="http://www.tsubakishrine.com/test/images/timfalls.jpg"/>
          <p:cNvPicPr/>
          <p:nvPr/>
        </p:nvPicPr>
        <p:blipFill>
          <a:blip r:embed="rId3"/>
          <a:stretch/>
        </p:blipFill>
        <p:spPr>
          <a:xfrm>
            <a:off x="6553080" y="533520"/>
            <a:ext cx="2271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on the Web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Ancient Japan: Shinto Creation Stories http://www.wsu.edu/~dee/ANCJAPAN/CREAT.HT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Visit a Shinto shrine on-line: Tsubaki Grand Shrine of America  http://www.tsubakishrine.co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The Shinto Online Network Association http://jinja.or.jp/modules/pico/index.php?cat_id=2  (</a:t>
            </a:r>
            <a:r>
              <a:rPr b="1" i="1" lang="ja-JP" sz="28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What is Shinto?</a:t>
            </a:r>
            <a:r>
              <a:rPr b="1" i="1" lang="ja-JP" sz="2800" spc="-1" strike="noStrike">
                <a:solidFill>
                  <a:srgbClr val="2d2525"/>
                </a:solidFill>
                <a:latin typeface="Times New Roman"/>
              </a:rPr>
              <a:t>”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43" name="Object 0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  <a:ea typeface="Matura MT Script Capitals"/>
              </a:rPr>
              <a:t>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The Shinto religion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is based on a sense of sacredness in and of nature originating in the natural beauty of Japan.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t is religion of feeling and acting (ceremonies, rites and rituals) more than of belief - thus it is sensory (in touch with surrounding nature and ritual activity) and communal (rich in public and national festivity and providing a sense of connection to a people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92" name="Object 9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9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What is Shinto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Way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(shin-to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cient, indigenous, mythical, nature religion of Japa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ore 1500 years ol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founder – An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thnic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ligion of the Japanese peopl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ot and embodiment of Japanese cultu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Mytholog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Two main texts: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8d688"/>
                </a:solidFill>
                <a:latin typeface="Times New Roman"/>
              </a:rPr>
              <a:t>Kojiki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 (myths of ancient times, origins of gods and man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8d688"/>
                </a:solidFill>
                <a:latin typeface="Times New Roman"/>
              </a:rPr>
              <a:t>Nihonji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 (ancient history of Japan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Of gods &amp; goddesses: The </a:t>
            </a:r>
            <a:r>
              <a:rPr b="1" i="1" lang="en-US" sz="2800" spc="-1" strike="noStrike">
                <a:solidFill>
                  <a:srgbClr val="d8d688"/>
                </a:solidFill>
                <a:latin typeface="Times New Roman"/>
              </a:rPr>
              <a:t>Kami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Polytheistic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Nature deities – represent and control natural elements and forc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Creation myth – Japan as the center of the world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0" name="Object 102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3962520" y="2286000"/>
            <a:ext cx="3581280" cy="22863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Izanagi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(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ale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”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) &amp; </a:t>
            </a: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izanami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(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emale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”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) (brother &amp; sister) create the islands of Japan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Mytholog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5" name="Picture 4" descr="Izanami &amp; Izanagi creating the islands of Japan"/>
          <p:cNvPicPr/>
          <p:nvPr/>
        </p:nvPicPr>
        <p:blipFill>
          <a:blip r:embed="rId1"/>
          <a:stretch/>
        </p:blipFill>
        <p:spPr>
          <a:xfrm>
            <a:off x="685800" y="1828800"/>
            <a:ext cx="300024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6" name="Picture 5" descr="Amaterasu and other Kami"/>
          <p:cNvPicPr/>
          <p:nvPr/>
        </p:nvPicPr>
        <p:blipFill>
          <a:blip r:embed="rId2"/>
          <a:stretch/>
        </p:blipFill>
        <p:spPr>
          <a:xfrm>
            <a:off x="4038480" y="1828800"/>
            <a:ext cx="35560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Text Box 7"/>
          <p:cNvSpPr/>
          <p:nvPr/>
        </p:nvSpPr>
        <p:spPr>
          <a:xfrm>
            <a:off x="152280" y="4952880"/>
            <a:ext cx="7543800" cy="11703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Amaterasu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– the Sun Goddes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other of the first emperor of Japan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8" name="Object 102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10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Three kinds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of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hrine/Folk Shint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ate Shint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t Shint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rine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Jinja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(shrines) - Tens of thousands located throughout Japa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Natural structure, fits in with natural surroundin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Torii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– entry gate, separates sacred from profane spac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ituals presided over by pries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ousehold shrines – </a:t>
            </a:r>
            <a:r>
              <a:rPr b="0" i="1" lang="en-US" sz="32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kamidana</a:t>
            </a:r>
            <a:r>
              <a:rPr b="0" i="1" lang="en-US" sz="32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(kami shelf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6" name="Picture 16" descr="http://images.google.com/images?q=tbn:wzSfVcQnM64J:www.jccc.net/~jjackson/ise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0880"/>
            <a:ext cx="138276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7" name="Picture 20" descr="http://www.miketobinphotography.com/Shinto%20Shrine%202.jpg"/>
          <p:cNvPicPr/>
          <p:nvPr/>
        </p:nvPicPr>
        <p:blipFill>
          <a:blip r:embed="rId5"/>
          <a:stretch/>
        </p:blipFill>
        <p:spPr>
          <a:xfrm>
            <a:off x="6095880" y="228600"/>
            <a:ext cx="2421000" cy="1596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18" name="Object 23"/>
          <p:cNvGraphicFramePr/>
          <p:nvPr/>
        </p:nvGraphicFramePr>
        <p:xfrm>
          <a:off x="5943600" y="4572000"/>
          <a:ext cx="2362320" cy="181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4572000"/>
                    <a:ext cx="2362320" cy="1811160"/>
                  </a:xfrm>
                  <a:prstGeom prst="rect">
                    <a:avLst/>
                  </a:prstGeom>
                  <a:ln w="12600">
                    <a:solidFill>
                      <a:srgbClr val="d8d688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tate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Meiji period (1868) – end of WWII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Emphasis on Japanese culture and nationality (elimination of foreign influence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Emperors of Japan as divine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Hierarchy of shrine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Main shrine at </a:t>
            </a:r>
            <a:r>
              <a:rPr b="1" i="1" lang="en-US" sz="2400" spc="-1" strike="noStrike">
                <a:solidFill>
                  <a:srgbClr val="d8d688"/>
                </a:solidFill>
                <a:latin typeface="Times New Roman"/>
              </a:rPr>
              <a:t>Ise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 – dedicated to Amaterasu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Palace shrines honoring Amaterasu, other kami, and emperor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Shrines elsewhere dedicated to national hero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97% of remaining shrines dedicated to local kami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ect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13 recognized sec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NG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any founded in 19</a:t>
            </a:r>
            <a:r>
              <a:rPr b="0" i="1" lang="en-US" sz="3200" spc="-1" strike="noStrike" baseline="30000">
                <a:solidFill>
                  <a:srgbClr val="2d2525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centur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pecific founders and tex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Unique teachings and practic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ome combine Shinto with influences from Buddhism or other religion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7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7:45:23Z</dcterms:created>
  <dc:creator>Laura</dc:creator>
  <dc:description/>
  <dc:language>en-US</dc:language>
  <cp:lastModifiedBy>Microsoft Office User</cp:lastModifiedBy>
  <dcterms:modified xsi:type="dcterms:W3CDTF">2013-02-04T22:38:38Z</dcterms:modified>
  <cp:revision>30</cp:revision>
  <dc:subject/>
  <dc:title>Shinto</dc:title>
</cp:coreProperties>
</file>